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EF55-5F2A-4CCB-947D-70DE4589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3B6-A5F4-4242-BBBE-581F7D3D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D67-749D-483F-83A4-F3F73BC1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2A0-9EBA-4C90-9182-996B269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146-FD74-41A8-8BC0-611D10B0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465-94FC-4DD8-A270-1C961487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B9B-7A40-43DB-8553-6C10FA5C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82D-026B-4B54-8A3D-3110575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42E-B3F5-493D-A830-C6D8949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A73-3D0A-411B-B52D-F5245190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270-BC5E-4083-887A-73BF68A9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4CF-5AD9-4096-B281-248F24B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CAA-7A00-482E-8B65-5502957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2A6-3C8F-4444-B3C3-EEE1A10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ECD7-09C6-48BB-B798-991BE655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21Z</dcterms:modified>
  <cp:revision>118</cp:revision>
  <dc:subject/>
  <dc:title>Museum of World Stuff</dc:title>
</cp:coreProperties>
</file>